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1FE-1B72-4D15-960C-8B8B058F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94C-18B6-40BB-8982-67E7B8F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977-AF6B-4EC8-8E4B-90822F6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B66-0D2E-43E0-8B60-67012FC6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CB4-AF24-40AD-B624-4FFD1358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81D-C280-4510-B08C-A1E3B422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3F3A-1C4B-423A-808B-E4BD8D7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8F3-7B54-4FA9-BA5E-7343E060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C60-1362-4A0B-84F2-E92528F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8B4-B112-4019-8996-AD42DBB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AF13-0B8D-4AE7-B651-5FE1554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543-1A42-4558-9DAE-F582C273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17D1-C4FE-4DEC-A080-4C5F9C8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FCD0-E8AF-41EA-9355-061D3D6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31A9-9A72-4611-89DE-258DB4E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A21-4B0D-4D8C-B100-AFF9E057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785C-E001-4325-8C7E-2FEBDEF6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80CC-A514-4C90-BCEC-1BF1E6E3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3F7F-DF6C-45D9-AF9C-6D3F289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88E2-FCE3-404D-8A1D-89B9041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988B-806E-440E-9E48-FCED0211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9EFC-43ED-47F7-813C-607D2B0E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D4A-3A2C-4D4D-8B65-4680CCD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77DB-51D2-455A-B543-5837093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9A1E-8BC4-44EB-81D5-4767997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B3F6-7011-4E8F-BCD0-033C998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E03B-AC78-4CBE-B581-F4CB104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1BD2-D8BF-4303-9F36-6AB40B5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9875-3733-4355-ABD2-B385ACB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4E42-ABA8-4A65-9D42-022D711A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CC85-09FD-4864-AE88-D307ECA7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991A-B4DD-4715-ACD2-201EDCF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3494-E8E3-40AA-BD66-FE85FAB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E5A-ED41-4477-B101-EFE7642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4CEC-3D2A-4F6F-9238-6059750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14E4-1FEA-48A4-A93C-5D05BA5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C14A-AA97-4CF9-B358-238F636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CB6D-1761-43E7-84FC-A2FB490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8D7F-D5A2-4B09-AA4E-E4FC697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C326-36EF-4EB7-A6BF-6FFC047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9829-CF18-466D-B40E-500281E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B224-1157-4F44-A7B4-B6D3BA3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0152-34C8-420F-89D8-F72313B7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529-982E-481C-BE51-0F84948D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1B2-260F-4603-94FD-F5C2AF28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FA5-B18B-4A2C-8190-BC4124C3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91A-2BFA-49C8-9DE7-F79C091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6FF-BD9B-4C4F-BB43-4554BC2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32DF-306A-462F-9C02-ABE21424C1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358E-B05B-402D-970E-1E39C6F504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717-4687-460D-977D-BD56F731D49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791-0B1E-4F31-8D03-54D9E2EFDA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ine Martin-Tumas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n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lope of Aggregate Suppl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outp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ward slop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: Horizontal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w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w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: Middle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dium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dium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: Vertical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igh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igh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9" name="Group 22"/>
          <p:cNvGrpSpPr/>
          <p:nvPr/>
        </p:nvGrpSpPr>
        <p:grpSpPr>
          <a:xfrm>
            <a:off x="2362320" y="0"/>
            <a:ext cx="6553080" cy="6617160"/>
            <a:chOff x="2362320" y="0"/>
            <a:chExt cx="6553080" cy="6617160"/>
          </a:xfrm>
        </p:grpSpPr>
        <p:grpSp>
          <p:nvGrpSpPr>
            <p:cNvPr id="200" name="Group 10"/>
            <p:cNvGrpSpPr/>
            <p:nvPr/>
          </p:nvGrpSpPr>
          <p:grpSpPr>
            <a:xfrm>
              <a:off x="2362320" y="0"/>
              <a:ext cx="6324480" cy="6174360"/>
              <a:chOff x="2362320" y="0"/>
              <a:chExt cx="6324480" cy="6174360"/>
            </a:xfrm>
          </p:grpSpPr>
          <p:sp>
            <p:nvSpPr>
              <p:cNvPr id="201" name="Straight Connector 4"/>
              <p:cNvSpPr/>
              <p:nvPr/>
            </p:nvSpPr>
            <p:spPr>
              <a:xfrm>
                <a:off x="3962520" y="6172920"/>
                <a:ext cx="4724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02" name="Straight Connector 5"/>
              <p:cNvSpPr/>
              <p:nvPr/>
            </p:nvSpPr>
            <p:spPr>
              <a:xfrm flipH="1">
                <a:off x="3962520" y="2514960"/>
                <a:ext cx="1440" cy="36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03" name="Arc 9"/>
              <p:cNvSpPr/>
              <p:nvPr/>
            </p:nvSpPr>
            <p:spPr>
              <a:xfrm rot="5400000">
                <a:off x="2247480" y="114480"/>
                <a:ext cx="5792040" cy="55627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3200400" y="3276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5" name="TextBox 12"/>
            <p:cNvSpPr/>
            <p:nvPr/>
          </p:nvSpPr>
          <p:spPr>
            <a:xfrm>
              <a:off x="7162920" y="62488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6" name="TextBox 13"/>
          <p:cNvSpPr/>
          <p:nvPr/>
        </p:nvSpPr>
        <p:spPr>
          <a:xfrm>
            <a:off x="6324480" y="41148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4495680" y="49528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6934320" y="28195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Straight Arrow Connector 19"/>
          <p:cNvCxnSpPr/>
          <p:nvPr/>
        </p:nvCxnSpPr>
        <p:spPr>
          <a:xfrm>
            <a:off x="4724280" y="53341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Straight Arrow Connector 20"/>
          <p:cNvCxnSpPr/>
          <p:nvPr/>
        </p:nvCxnSpPr>
        <p:spPr>
          <a:xfrm>
            <a:off x="6629400" y="44197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Straight Arrow Connector 21"/>
          <p:cNvCxnSpPr/>
          <p:nvPr/>
        </p:nvCxnSpPr>
        <p:spPr>
          <a:xfrm>
            <a:off x="7238880" y="30481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section of AS and 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251424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termines equilibrium price level and equilibrium GD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2362320" y="-457200"/>
            <a:ext cx="6553080" cy="6617160"/>
            <a:chOff x="2362320" y="-457200"/>
            <a:chExt cx="6553080" cy="6617160"/>
          </a:xfrm>
        </p:grpSpPr>
        <p:grpSp>
          <p:nvGrpSpPr>
            <p:cNvPr id="215" name="Group 10"/>
            <p:cNvGrpSpPr/>
            <p:nvPr/>
          </p:nvGrpSpPr>
          <p:grpSpPr>
            <a:xfrm>
              <a:off x="2362320" y="-457200"/>
              <a:ext cx="6324480" cy="6174360"/>
              <a:chOff x="2362320" y="-457200"/>
              <a:chExt cx="6324480" cy="6174360"/>
            </a:xfrm>
          </p:grpSpPr>
          <p:sp>
            <p:nvSpPr>
              <p:cNvPr id="216" name="Straight Connector 14"/>
              <p:cNvSpPr/>
              <p:nvPr/>
            </p:nvSpPr>
            <p:spPr>
              <a:xfrm>
                <a:off x="3962520" y="5715720"/>
                <a:ext cx="4724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7" name="Straight Connector 15"/>
              <p:cNvSpPr/>
              <p:nvPr/>
            </p:nvSpPr>
            <p:spPr>
              <a:xfrm flipH="1">
                <a:off x="3962520" y="2057760"/>
                <a:ext cx="1440" cy="36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8" name="Arc 16"/>
              <p:cNvSpPr/>
              <p:nvPr/>
            </p:nvSpPr>
            <p:spPr>
              <a:xfrm rot="5400000">
                <a:off x="2247480" y="-342360"/>
                <a:ext cx="5792040" cy="55627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19" name="TextBox 12"/>
            <p:cNvSpPr/>
            <p:nvPr/>
          </p:nvSpPr>
          <p:spPr>
            <a:xfrm>
              <a:off x="3200400" y="2819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TextBox 13"/>
            <p:cNvSpPr/>
            <p:nvPr/>
          </p:nvSpPr>
          <p:spPr>
            <a:xfrm>
              <a:off x="7162920" y="5791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4267080" y="1600200"/>
            <a:ext cx="4114800" cy="3657600"/>
            <a:chOff x="4267080" y="1600200"/>
            <a:chExt cx="4114800" cy="3657600"/>
          </a:xfrm>
        </p:grpSpPr>
        <p:sp>
          <p:nvSpPr>
            <p:cNvPr id="222" name="Straight Connector 18"/>
            <p:cNvSpPr/>
            <p:nvPr/>
          </p:nvSpPr>
          <p:spPr>
            <a:xfrm>
              <a:off x="4419360" y="2057400"/>
              <a:ext cx="365760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TextBox 19"/>
            <p:cNvSpPr/>
            <p:nvPr/>
          </p:nvSpPr>
          <p:spPr>
            <a:xfrm>
              <a:off x="4267080" y="1600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4" name="TextBox 20"/>
            <p:cNvSpPr/>
            <p:nvPr/>
          </p:nvSpPr>
          <p:spPr>
            <a:xfrm>
              <a:off x="769608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5" name="Oval 21"/>
          <p:cNvSpPr/>
          <p:nvPr/>
        </p:nvSpPr>
        <p:spPr>
          <a:xfrm>
            <a:off x="6858000" y="4114800"/>
            <a:ext cx="60948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f-Correcting Mechan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ssionary Ga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DP &gt; E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employed would be unemployed for so long, they would be willing to accept lower w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r wages decreases costs of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fitability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ion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shifts rights until it intersects AD at P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ce levels come down, EGDP goes 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n’t reall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33520" y="1523880"/>
            <a:ext cx="10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traight Connector 7"/>
          <p:cNvSpPr/>
          <p:nvPr/>
        </p:nvSpPr>
        <p:spPr>
          <a:xfrm>
            <a:off x="1285920" y="6004080"/>
            <a:ext cx="5821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traight Connector 15"/>
          <p:cNvSpPr/>
          <p:nvPr/>
        </p:nvSpPr>
        <p:spPr>
          <a:xfrm flipH="1">
            <a:off x="1285920" y="1498680"/>
            <a:ext cx="1440" cy="450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6450120" y="6097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traight Connector 11"/>
          <p:cNvSpPr/>
          <p:nvPr/>
        </p:nvSpPr>
        <p:spPr>
          <a:xfrm>
            <a:off x="1849320" y="1498680"/>
            <a:ext cx="4505400" cy="39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1676520" y="114300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H="1">
            <a:off x="5866920" y="990720"/>
            <a:ext cx="1800" cy="497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638680" y="60958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GDP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8"/>
          <p:cNvSpPr/>
          <p:nvPr/>
        </p:nvSpPr>
        <p:spPr>
          <a:xfrm flipH="1">
            <a:off x="4265280" y="3659040"/>
            <a:ext cx="3240" cy="236232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9"/>
          <p:cNvSpPr/>
          <p:nvPr/>
        </p:nvSpPr>
        <p:spPr>
          <a:xfrm>
            <a:off x="1295280" y="3581280"/>
            <a:ext cx="2894040" cy="7776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24"/>
          <p:cNvSpPr/>
          <p:nvPr/>
        </p:nvSpPr>
        <p:spPr>
          <a:xfrm>
            <a:off x="4267080" y="3657600"/>
            <a:ext cx="1676520" cy="144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38862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609480" y="342900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6934320" y="3352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ssionary Ga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2" name="Group 39"/>
          <p:cNvGrpSpPr/>
          <p:nvPr/>
        </p:nvGrpSpPr>
        <p:grpSpPr>
          <a:xfrm>
            <a:off x="5179680" y="2819520"/>
            <a:ext cx="2441880" cy="763560"/>
            <a:chOff x="5179680" y="2819520"/>
            <a:chExt cx="2441880" cy="763560"/>
          </a:xfrm>
        </p:grpSpPr>
        <p:cxnSp>
          <p:nvCxnSpPr>
            <p:cNvPr id="243" name="Straight Arrow Connector 34"/>
            <p:cNvCxnSpPr/>
            <p:nvPr/>
          </p:nvCxnSpPr>
          <p:spPr>
            <a:xfrm flipH="1">
              <a:off x="5179680" y="2819880"/>
              <a:ext cx="2160" cy="763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Straight Connector 36"/>
            <p:cNvSpPr/>
            <p:nvPr/>
          </p:nvSpPr>
          <p:spPr>
            <a:xfrm>
              <a:off x="5180760" y="2819520"/>
              <a:ext cx="24393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Straight Connector 38"/>
            <p:cNvSpPr/>
            <p:nvPr/>
          </p:nvSpPr>
          <p:spPr>
            <a:xfrm flipH="1">
              <a:off x="7620120" y="2895480"/>
              <a:ext cx="144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Group 45"/>
          <p:cNvGrpSpPr/>
          <p:nvPr/>
        </p:nvGrpSpPr>
        <p:grpSpPr>
          <a:xfrm>
            <a:off x="2209680" y="1143000"/>
            <a:ext cx="5187960" cy="4419360"/>
            <a:chOff x="2209680" y="1143000"/>
            <a:chExt cx="5187960" cy="4419360"/>
          </a:xfrm>
        </p:grpSpPr>
        <p:sp>
          <p:nvSpPr>
            <p:cNvPr id="247" name="TextBox 13"/>
            <p:cNvSpPr/>
            <p:nvPr/>
          </p:nvSpPr>
          <p:spPr>
            <a:xfrm>
              <a:off x="6552720" y="1143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8" name="Straight Connector 44"/>
            <p:cNvSpPr/>
            <p:nvPr/>
          </p:nvSpPr>
          <p:spPr>
            <a:xfrm flipV="1">
              <a:off x="2209680" y="1447200"/>
              <a:ext cx="4267080" cy="411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9" name="TextBox 47"/>
          <p:cNvSpPr/>
          <p:nvPr/>
        </p:nvSpPr>
        <p:spPr>
          <a:xfrm>
            <a:off x="8077320" y="1905120"/>
            <a:ext cx="7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48"/>
          <p:cNvSpPr/>
          <p:nvPr/>
        </p:nvSpPr>
        <p:spPr>
          <a:xfrm flipV="1">
            <a:off x="5154480" y="2305080"/>
            <a:ext cx="3571920" cy="333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elf-Correcting Mechanism 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lationary G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DP &lt; E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high production, resources would become s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ces of resources rise, increase costs of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falls, shifts left until it intersects with AD at P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DP falls, price levels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4"/>
          <p:cNvSpPr/>
          <p:nvPr/>
        </p:nvSpPr>
        <p:spPr>
          <a:xfrm>
            <a:off x="533520" y="1523880"/>
            <a:ext cx="10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traight Connector 7"/>
          <p:cNvSpPr/>
          <p:nvPr/>
        </p:nvSpPr>
        <p:spPr>
          <a:xfrm>
            <a:off x="1285920" y="6004080"/>
            <a:ext cx="5821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15"/>
          <p:cNvSpPr/>
          <p:nvPr/>
        </p:nvSpPr>
        <p:spPr>
          <a:xfrm flipH="1">
            <a:off x="1285920" y="1498680"/>
            <a:ext cx="1440" cy="450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6450120" y="6097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1849320" y="1498680"/>
            <a:ext cx="4505400" cy="39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676520" y="114300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traight Connector 9"/>
          <p:cNvSpPr/>
          <p:nvPr/>
        </p:nvSpPr>
        <p:spPr>
          <a:xfrm flipH="1">
            <a:off x="2590920" y="1066680"/>
            <a:ext cx="1440" cy="497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2860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GDP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>
            <a:off x="4265280" y="3659040"/>
            <a:ext cx="3240" cy="236232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19"/>
          <p:cNvSpPr/>
          <p:nvPr/>
        </p:nvSpPr>
        <p:spPr>
          <a:xfrm>
            <a:off x="1295280" y="3581280"/>
            <a:ext cx="2894040" cy="7776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24"/>
          <p:cNvSpPr/>
          <p:nvPr/>
        </p:nvSpPr>
        <p:spPr>
          <a:xfrm>
            <a:off x="2590920" y="3581280"/>
            <a:ext cx="1676160" cy="7776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38862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609480" y="342900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6934320" y="3352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lationary Ga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7" name="Group 39"/>
          <p:cNvGrpSpPr/>
          <p:nvPr/>
        </p:nvGrpSpPr>
        <p:grpSpPr>
          <a:xfrm>
            <a:off x="3504600" y="2819520"/>
            <a:ext cx="4038840" cy="763560"/>
            <a:chOff x="3504600" y="2819520"/>
            <a:chExt cx="4038840" cy="763560"/>
          </a:xfrm>
        </p:grpSpPr>
        <p:cxnSp>
          <p:nvCxnSpPr>
            <p:cNvPr id="268" name="Straight Arrow Connector 34"/>
            <p:cNvCxnSpPr/>
            <p:nvPr/>
          </p:nvCxnSpPr>
          <p:spPr>
            <a:xfrm flipH="1">
              <a:off x="3504600" y="2819880"/>
              <a:ext cx="3240" cy="763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Straight Connector 36"/>
            <p:cNvSpPr/>
            <p:nvPr/>
          </p:nvSpPr>
          <p:spPr>
            <a:xfrm>
              <a:off x="3506400" y="2819520"/>
              <a:ext cx="4034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Straight Connector 38"/>
            <p:cNvSpPr/>
            <p:nvPr/>
          </p:nvSpPr>
          <p:spPr>
            <a:xfrm flipH="1">
              <a:off x="7540920" y="2895480"/>
              <a:ext cx="252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1" name="Group 33"/>
          <p:cNvGrpSpPr/>
          <p:nvPr/>
        </p:nvGrpSpPr>
        <p:grpSpPr>
          <a:xfrm>
            <a:off x="2209680" y="1143000"/>
            <a:ext cx="5340600" cy="4191120"/>
            <a:chOff x="2209680" y="1143000"/>
            <a:chExt cx="5340600" cy="4191120"/>
          </a:xfrm>
        </p:grpSpPr>
        <p:sp>
          <p:nvSpPr>
            <p:cNvPr id="272" name="TextBox 13"/>
            <p:cNvSpPr/>
            <p:nvPr/>
          </p:nvSpPr>
          <p:spPr>
            <a:xfrm>
              <a:off x="6705360" y="1143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Straight Connector 32"/>
            <p:cNvSpPr/>
            <p:nvPr/>
          </p:nvSpPr>
          <p:spPr>
            <a:xfrm flipV="1">
              <a:off x="2209680" y="1600200"/>
              <a:ext cx="449568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4" name="Group 40"/>
          <p:cNvGrpSpPr/>
          <p:nvPr/>
        </p:nvGrpSpPr>
        <p:grpSpPr>
          <a:xfrm>
            <a:off x="1600200" y="304920"/>
            <a:ext cx="3962520" cy="2666880"/>
            <a:chOff x="1600200" y="304920"/>
            <a:chExt cx="3962520" cy="2666880"/>
          </a:xfrm>
        </p:grpSpPr>
        <p:sp>
          <p:nvSpPr>
            <p:cNvPr id="275" name="TextBox 37"/>
            <p:cNvSpPr/>
            <p:nvPr/>
          </p:nvSpPr>
          <p:spPr>
            <a:xfrm>
              <a:off x="4487040" y="304920"/>
              <a:ext cx="107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Straight Connector 39"/>
            <p:cNvSpPr/>
            <p:nvPr/>
          </p:nvSpPr>
          <p:spPr>
            <a:xfrm flipV="1">
              <a:off x="1600200" y="595800"/>
              <a:ext cx="2886840" cy="23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ll Employ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1599840" y="0"/>
            <a:ext cx="7544160" cy="6617160"/>
            <a:chOff x="1599840" y="0"/>
            <a:chExt cx="7544160" cy="6617160"/>
          </a:xfrm>
        </p:grpSpPr>
        <p:sp>
          <p:nvSpPr>
            <p:cNvPr id="279" name="TextBox 5"/>
            <p:cNvSpPr/>
            <p:nvPr/>
          </p:nvSpPr>
          <p:spPr>
            <a:xfrm>
              <a:off x="243828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80" name="Group 17"/>
            <p:cNvGrpSpPr/>
            <p:nvPr/>
          </p:nvGrpSpPr>
          <p:grpSpPr>
            <a:xfrm>
              <a:off x="1599840" y="0"/>
              <a:ext cx="7544160" cy="6617160"/>
              <a:chOff x="1599840" y="0"/>
              <a:chExt cx="7544160" cy="6617160"/>
            </a:xfrm>
          </p:grpSpPr>
          <p:grpSp>
            <p:nvGrpSpPr>
              <p:cNvPr id="281" name="Group 10"/>
              <p:cNvGrpSpPr/>
              <p:nvPr/>
            </p:nvGrpSpPr>
            <p:grpSpPr>
              <a:xfrm>
                <a:off x="1599840" y="0"/>
                <a:ext cx="6325200" cy="6174360"/>
                <a:chOff x="1599840" y="0"/>
                <a:chExt cx="6325200" cy="6174360"/>
              </a:xfrm>
            </p:grpSpPr>
            <p:sp>
              <p:nvSpPr>
                <p:cNvPr id="282" name="Straight Connector 7"/>
                <p:cNvSpPr/>
                <p:nvPr/>
              </p:nvSpPr>
              <p:spPr>
                <a:xfrm>
                  <a:off x="3200400" y="6172920"/>
                  <a:ext cx="47246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3" name="Straight Connector 8"/>
                <p:cNvSpPr/>
                <p:nvPr/>
              </p:nvSpPr>
              <p:spPr>
                <a:xfrm flipH="1">
                  <a:off x="3200400" y="2514960"/>
                  <a:ext cx="1440" cy="36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4" name="Arc 9"/>
                <p:cNvSpPr/>
                <p:nvPr/>
              </p:nvSpPr>
              <p:spPr>
                <a:xfrm rot="5400000">
                  <a:off x="1485000" y="114120"/>
                  <a:ext cx="5792040" cy="556308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38160" dir="5400000" blurRad="0" rotWithShape="0">
                    <a:srgbClr val="000000">
                      <a:alpha val="4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85" name="TextBox 6"/>
              <p:cNvSpPr/>
              <p:nvPr/>
            </p:nvSpPr>
            <p:spPr>
              <a:xfrm>
                <a:off x="7391520" y="624888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EGDP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86" name="Group 10"/>
              <p:cNvGrpSpPr/>
              <p:nvPr/>
            </p:nvGrpSpPr>
            <p:grpSpPr>
              <a:xfrm>
                <a:off x="3504960" y="2057400"/>
                <a:ext cx="4114800" cy="3657960"/>
                <a:chOff x="3504960" y="2057400"/>
                <a:chExt cx="4114800" cy="3657960"/>
              </a:xfrm>
            </p:grpSpPr>
            <p:sp>
              <p:nvSpPr>
                <p:cNvPr id="287" name="Straight Connector 11"/>
                <p:cNvSpPr/>
                <p:nvPr/>
              </p:nvSpPr>
              <p:spPr>
                <a:xfrm>
                  <a:off x="3657240" y="2514600"/>
                  <a:ext cx="3657600" cy="3200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8" name="TextBox 12"/>
                <p:cNvSpPr/>
                <p:nvPr/>
              </p:nvSpPr>
              <p:spPr>
                <a:xfrm>
                  <a:off x="3504960" y="205740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AD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9" name="TextBox 13"/>
                <p:cNvSpPr/>
                <p:nvPr/>
              </p:nvSpPr>
              <p:spPr>
                <a:xfrm>
                  <a:off x="6933960" y="243828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AS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90" name="Straight Connector 15"/>
              <p:cNvSpPr/>
              <p:nvPr/>
            </p:nvSpPr>
            <p:spPr>
              <a:xfrm flipH="1">
                <a:off x="6399360" y="2133720"/>
                <a:ext cx="1440" cy="4038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91" name="TextBox 16"/>
              <p:cNvSpPr/>
              <p:nvPr/>
            </p:nvSpPr>
            <p:spPr>
              <a:xfrm>
                <a:off x="6019920" y="624888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PGDP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92" name="TextBox 19"/>
          <p:cNvSpPr/>
          <p:nvPr/>
        </p:nvSpPr>
        <p:spPr>
          <a:xfrm>
            <a:off x="304920" y="16002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AS and AD intersect at PG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20Z</dcterms:created>
  <dc:creator>MartinTumasz.C442</dc:creator>
  <dc:description/>
  <dc:language>en-US</dc:language>
  <cp:lastModifiedBy>MartinTumasz.C442</cp:lastModifiedBy>
  <dcterms:modified xsi:type="dcterms:W3CDTF">2009-01-26T13:20:53Z</dcterms:modified>
  <cp:revision>5</cp:revision>
  <dc:subject/>
  <dc:title>Chapter 28!!!</dc:title>
</cp:coreProperties>
</file>